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E05-29CD-4E71-B776-9751260F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F69-3E53-4FCE-B534-84014B7D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426-2D52-44CB-9492-87284A37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96A-6D0A-48DB-9368-CB056FB4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59C-D725-48E1-B2FB-4564A9AF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F4E-5159-4C8D-B492-A4C6247D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A5B-CCBE-4805-A7E1-4B9AF865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3C5-7166-40DE-B2C7-ED760166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B3A-06E4-40D5-8BAB-68E2C54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85E-B162-403E-809F-D59857D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88C-4D61-45B6-8D91-030C6E16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5A1-F065-4789-A04F-0F6C121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4e1"/>
            </a:gs>
            <a:gs pos="100000">
              <a:srgbClr val="e6e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FE8F-66E5-47F6-BB99-917052348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539640" y="3716280"/>
            <a:ext cx="79200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Segoe Script"/>
              </a:rPr>
              <a:t>Всероссийский урок (занят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Segoe Script"/>
              </a:rPr>
              <a:t>в МБОУ СО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Segoe Script"/>
              </a:rPr>
              <a:t>г.Белореченск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Segoe Script"/>
              </a:rPr>
              <a:t>« Здоровые дети -в здоровой семье 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p110_75472902_3571750_e3e0ece0ea.jpg"/>
          <p:cNvPicPr/>
          <p:nvPr/>
        </p:nvPicPr>
        <p:blipFill>
          <a:blip r:embed="rId1"/>
          <a:stretch/>
        </p:blipFill>
        <p:spPr>
          <a:xfrm>
            <a:off x="539640" y="260280"/>
            <a:ext cx="7883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В МБОУ СОШ 4 г.Белореченска 7 февраля 2014 года  в рамках урока (занятия)проведены классные часы в 1-11 классах  </a:t>
            </a:r>
            <a:br>
              <a:rPr sz="1800"/>
            </a:b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«Здоровые дети – в здоровой семье» года  в  рамках акции «Россия, вперёд!», в котором  приняли участие 473 ученика.</a:t>
            </a:r>
            <a:br>
              <a:rPr sz="1800"/>
            </a:b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 </a:t>
            </a: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	</a:t>
            </a: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Проведена эстафета в 1-х классах учителем ФК  Галиной Павловной Юрко  совместно с тренером </a:t>
            </a:r>
            <a:br>
              <a:rPr sz="1800"/>
            </a:b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ЦПР ФК «Краснодар» Белореченского филиала Шрамко Александром Александровиче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Mantazh\Desktop\ОТчёт ежедневный\с 8 по 14\DSC_0328.JPG"/>
          <p:cNvPicPr/>
          <p:nvPr/>
        </p:nvPicPr>
        <p:blipFill>
          <a:blip r:embed="rId1"/>
          <a:stretch/>
        </p:blipFill>
        <p:spPr>
          <a:xfrm>
            <a:off x="395280" y="3068640"/>
            <a:ext cx="4038480" cy="360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Mantazh\Desktop\ОТчёт ежедневный\с 8 по 14\DSC_0308.JPG"/>
          <p:cNvPicPr/>
          <p:nvPr/>
        </p:nvPicPr>
        <p:blipFill>
          <a:blip r:embed="rId2"/>
          <a:stretch/>
        </p:blipFill>
        <p:spPr>
          <a:xfrm>
            <a:off x="4716360" y="3068640"/>
            <a:ext cx="4038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Segoe Script"/>
              </a:rPr>
              <a:t>Эстафета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Segoe Script"/>
              </a:rPr>
              <a:t>« Здоровые дети -в здоровой семье 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Mantazh\Desktop\ОТчёт ежедневный\с 8 по 14\DSC_0323.JPG"/>
          <p:cNvPicPr/>
          <p:nvPr/>
        </p:nvPicPr>
        <p:blipFill>
          <a:blip r:embed="rId1"/>
          <a:stretch/>
        </p:blipFill>
        <p:spPr>
          <a:xfrm>
            <a:off x="4788000" y="2133720"/>
            <a:ext cx="4114800" cy="38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Mantazh\Desktop\ОТчёт ежедневный\с 8 по 14\DSC_0327.JPG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1:28:26Z</dcterms:created>
  <dc:creator>1</dc:creator>
  <dc:description/>
  <dc:language>en-US</dc:language>
  <cp:lastModifiedBy>Admin</cp:lastModifiedBy>
  <dcterms:modified xsi:type="dcterms:W3CDTF">2014-02-10T19:27:02Z</dcterms:modified>
  <cp:revision>44</cp:revision>
  <dc:subject/>
  <dc:title>Слайд 1</dc:title>
</cp:coreProperties>
</file>